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15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whoosh.wav" ContentType="audio/x-wav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  <p:sldId id="282" r:id="rId52"/>
    <p:sldId id="28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slide" Target="slides/slide27.xml"/><Relationship Id="rId53" Type="http://schemas.openxmlformats.org/officeDocument/2006/relationships/slide" Target="slides/slide2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EA11-2CE4-4EB2-ACBC-122FADDE3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7758-7E6F-4000-AD49-4B423AE7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78F4-3492-4D47-9C93-82E0B7A3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7B61-74B5-45CE-A3AC-45512796D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9503-0167-48D5-8DD1-03912B28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5B5B-547E-42BD-9B8E-947A9EFB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FB61-71EF-4EBD-B544-BA2F8DA9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BE19-BD75-4F24-B752-B8067463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BE62-AA50-427B-8E95-2F459563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57ED-58F6-4174-8041-F048F89C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5CC0-C93C-4CD7-9788-8C26B49D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9B1D-BAD9-4E71-A82D-8A67CFA3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8698-C0C5-4E6E-8DF6-830E0622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AF13-F2A2-403F-B97B-36370152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2C7E-FC6B-401C-BFF4-6108056D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D703-E713-4E07-9A73-8F50045E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E7380-B029-461F-B8D0-E0615499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6B22-C26C-498B-9112-CD2BC330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8301B-FEC2-4DAD-9082-95FC36B2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577AE-0DBA-48E5-8C0D-5C2CF806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325FA-1E10-43CD-B6EE-4C6B1019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F7056-85D6-4432-A6AD-BE66C036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CBA7E-C3F5-47CD-AC5C-EA7A3095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C2ECD-91C9-4F17-BA62-60E43A5D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804B8-A170-41CC-A7D9-AC07EA8C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A124D-C730-4177-AC88-2C721721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6C288-740E-4544-BA44-69D34A3A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0F799-AC7B-43E9-994F-7069C6E4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3751-FC9B-473F-BA58-5C1F77D8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8C5B9-C59B-496C-B9A3-2DEDBC0E8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773EE-9756-45FA-85E6-F7246C76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212E0-DBDB-43A0-A2DD-00BC07F7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5A7B8-B73D-48E5-997B-26DE592E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AAAAF-D45E-435A-AEFF-7F770BBB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6E809-BCFB-4763-AA1C-0CB61957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C3D3F-B869-4D58-A4EC-F0EAE39E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EF0FF-A942-4093-A4AE-1D48E8A6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8274F-8E40-4172-B5B8-FAEC8B0A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092EC-C3E4-4B7C-ACAF-E5F5B899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33DE-9CEB-4612-806B-B8F72B1A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64386-0C24-4218-9FE5-06F64808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1B12B-B72E-4C43-BDF5-797AB817B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56295-86D9-45CA-88F9-635B24106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78560-1838-4991-AFD0-D9501821A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5BCEE-92E1-46FC-9A4C-18CFB525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92A30-AADC-42A0-8092-184F632A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7A814-8065-488B-A3F1-B1F863B5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EF7B0-88E4-4071-924A-1EA598FB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8A052-CB6B-436A-B450-8D5C239B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1D065-2EC6-471C-96C1-DB511756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BD65-ABD0-4DFE-BCF6-F26E9696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4692A-EFE7-4B7F-AD1E-73799DB1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19642-7CEA-47D3-98DA-F8FE49A2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56C8A-65AA-4988-B742-5ABC5522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71456-5662-4C2B-8845-48AFA0317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4213E-8DA8-4ECA-990E-8651B9B67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0C6E8-7AA9-4754-B1EE-3FDF3AAC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8DE3C-7375-415B-AA9D-6E801801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4603B-4D57-4889-8CE9-BACEDF5B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B83C2-7C2C-4B6E-A320-8D16C14B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A08C8-1155-4719-849E-B289C007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179E-CB6E-4294-A718-B066A894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F32C1-C348-47E4-B86A-52CB9229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04CBA-41FF-48DD-9ED3-52269CE4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0A992-C7E8-4BB5-BA25-572C829B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CD843-5068-4A59-95A7-F624DD71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846A2-7933-470D-97B8-F193E4E2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8DAEC-4039-49A6-8963-90761E71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B443D-6192-467F-8710-DDC70A646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755B7-F57E-4FBA-B782-FDC18112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16004-6FBF-4B3A-987D-7A1D4241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CF00E-7117-4F08-8C31-B3845B16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1030-E02C-4766-BA14-F5DC9BED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37C15-BC31-44E0-A9A4-76E0739F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6AC32-C7B0-4616-9163-DEDBB830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DC6C4-596E-4CA3-9020-4A705C55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24F11-8B89-4C89-BB6F-0FC9BFE0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17EEF-87AE-450B-97A9-5CA6DB0C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E026E-8B53-4B83-B26F-B3403F05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AEC0E-C20C-4CDD-BE9E-9C36D924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82C8A-79F3-4439-96AE-95C73B34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86D6C-3B67-41C1-8FDD-570F94C14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0835A-F468-4A59-AF7C-10847E67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4B3A-6D1B-4640-A57F-3FAF3FF28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F4375-F21F-4C7B-9028-A153F7E4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9D372-BC2C-4CED-BD4B-45898BC9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FEAFD-FCFD-4FF2-A564-108358D9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54041-1C62-4548-92EF-6220D452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9FEE3-5A98-4591-8ED3-E798C905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7789A-3F8D-4079-B78F-83510230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2EF56-7A00-4B64-95AB-6CFFB24B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3EC63-AF8D-4637-93F0-5AB67E15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36336-594D-4810-9253-141269FB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B8BAE-D5E4-4CFD-8FE4-D36194A50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9EF7-00B8-42F1-BC82-571C2DCA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0A9E4-F055-4D93-A308-AD41C4F2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7D133-8035-4A72-ABDF-1D2B4737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18814-B738-4EEB-A659-ECF2F53C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50E67-7F4D-415B-B8E1-878D61D7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2912C-4659-4037-9C0C-ADA5CE3F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CD1664-A33E-41EF-BFEB-6F99D898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E1846-1442-46B5-BD0A-E891DDC0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A26E5-951B-49A8-973B-580071C4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DA1E1-AF07-4B55-92D3-EE576BFC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8D673-C27D-4BA0-8AD1-03F8F4EA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C3121-E3A2-460E-AC3B-16E45A12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B1574-A1E8-4890-BBB8-9703A9F1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86F54-B704-4DB7-A3E1-D221D270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E2A6F-E7CB-461A-8309-30E87796C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FC99C-5D44-481A-BC0B-5E910586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0D27B-7461-4831-83E6-5DD870BD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0FD4C-AFB8-4B1F-8D91-64A4B75C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D5229A-A515-49D9-A715-A846862A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8E235B-7146-471F-8387-FA6AF698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A5A4E-9487-4F51-97EE-43255A30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093EA-44C9-4F75-A060-48E57E42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1D0A4-3281-4745-A58A-EB2F8EC2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52E03-3E71-4CB3-A0FA-9A65F0B8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BEF3F-DDAF-40B0-A52D-B8495E9D9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18D39-3145-41B1-9058-57D8CDD3D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03AAF-BEF4-4319-AF91-463D7D8F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772E1-CF66-415D-BFF3-32351835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3D420-27EC-4C05-90BF-884CFFF1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35786-680A-4D3F-A9F3-1DE2D490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CEF7D-06DC-4ABB-9BB2-A766A4BE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9FF83-F269-4C48-AC28-440A4012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B102C-C6DC-40B5-BD99-067C516D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4C1A8-3472-4DC5-AF57-688B0D0F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25E97-6E3C-41FF-BEDC-49C42964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92B71-7C26-4841-8500-E5D1BBBA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BAD82-53C7-4E76-A474-103C2FED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5E844-F6CA-4D50-9D0A-70986E03C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D1B716-820C-4F92-8126-56A4FFFF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1D023-8423-4609-B5C0-758C7AC7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B9FF5-5B0D-44E2-AF7F-37023ADF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FD8ECD-72D0-4FC6-A7FD-D60ECD5B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F602CA-70D1-4A92-B095-E5B48490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092697-83E0-4E10-B40D-6F903F83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7A1D8-EAFB-4809-B686-1A35AFA9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C90C9-B504-47E1-AE86-37DC7431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61CF2-29FE-4275-B30D-C46B7273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6F3A7C-4700-489E-8A44-A5423445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DF99C-C7AB-4DA2-8DB4-E645F04A3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A0D89-C720-4419-A33B-D7634F13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0320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13716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0320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13716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0320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13716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0320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13716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0320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13716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组合 34817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505" name="椭圆 34818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椭圆 34819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椭圆 34820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椭圆 34821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椭圆 34822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椭圆 34823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0CAC-36ED-44E9-8CD7-F18C659BA27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C816-CCDF-4B39-A95E-CB82BC6D7CE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F709-EEAD-4C42-8BF7-9A2E78F7A6E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5676-F3BA-4F24-8905-538D141ED12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D02A-01FD-4F0C-AB09-BC1A20D1E3B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F5AD-FB0F-45EF-AC05-4ECF986FF24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图片 33793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39" name="组合 33794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0" name="椭圆 33795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椭圆 33796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椭圆 33797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椭圆 33798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椭圆 33799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CCCB-B6CA-4916-BBE5-CD0B306981F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B9B2-53A5-4B76-978B-2EF19C9682D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2F8D-50BF-43AA-884A-7A98DD73695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8B98-A4F9-46D3-831E-75B9E4D8C21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4708-3A71-4F3D-BB17-03E52D1E87F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7938-CE77-46D1-8F2B-6E160EAD33A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0320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13716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0320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13716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0320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13716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0320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13716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0320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13716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0320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13716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0320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13716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hyperlink" Target="../../../../&#25945;&#24072;&#35838;&#20214;/&#35821;&#25991;/&#37011;&#25096;/&#40635;&#38592;2.ppt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hyperlink" Target="../../../&#25945;&#24072;&#35838;&#20214;/&#35821;&#25991;/&#37011;&#25096;/&#40635;&#38592;2.ppt" TargetMode="External"/><Relationship Id="rId4" Type="http://schemas.openxmlformats.org/officeDocument/2006/relationships/image" Target="../media/image6.png"/><Relationship Id="rId5" Type="http://schemas.openxmlformats.org/officeDocument/2006/relationships/hyperlink" Target="../../../../&#25945;&#24072;&#35838;&#20214;/&#35821;&#25991;/&#37011;&#25096;/&#40635;&#38592;2.ppt" TargetMode="External"/><Relationship Id="rId6" Type="http://schemas.openxmlformats.org/officeDocument/2006/relationships/image" Target="../media/image7.png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2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../../../&#25945;&#24072;&#35838;&#20214;/&#35821;&#25991;/&#37011;&#25096;/&#40635;&#38592;2.ppt" TargetMode="External"/><Relationship Id="rId3" Type="http://schemas.openxmlformats.org/officeDocument/2006/relationships/image" Target="../media/image6.png"/><Relationship Id="rId4" Type="http://schemas.openxmlformats.org/officeDocument/2006/relationships/hyperlink" Target="../../../../&#25945;&#24072;&#35838;&#20214;/&#35821;&#25991;/&#37011;&#25096;/&#40635;&#38592;2.ppt" TargetMode="External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../../../&#25945;&#24072;&#35838;&#20214;/&#35821;&#25991;/&#37011;&#25096;/&#40635;&#38592;2.ppt" TargetMode="External"/><Relationship Id="rId3" Type="http://schemas.openxmlformats.org/officeDocument/2006/relationships/image" Target="../media/image6.png"/><Relationship Id="rId4" Type="http://schemas.openxmlformats.org/officeDocument/2006/relationships/hyperlink" Target="../../../../&#25945;&#24072;&#35838;&#20214;/&#35821;&#25991;/&#37011;&#25096;/&#40635;&#38592;2.ppt" TargetMode="Externa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2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2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hyperlink" Target="../../../&#25945;&#24072;&#35838;&#20214;/&#35821;&#25991;/&#37011;&#25096;/&#40635;&#38592;2.ppt" TargetMode="External"/><Relationship Id="rId4" Type="http://schemas.openxmlformats.org/officeDocument/2006/relationships/image" Target="../media/image6.png"/><Relationship Id="rId5" Type="http://schemas.openxmlformats.org/officeDocument/2006/relationships/hyperlink" Target="../../../../&#25945;&#24072;&#35838;&#20214;/&#35821;&#25991;/&#37011;&#25096;/&#40635;&#38592;2.ppt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2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hyperlink" Target="../../../&#25945;&#24072;&#35838;&#20214;/&#35821;&#25991;/&#37011;&#25096;/&#40635;&#38592;2.ppt" TargetMode="External"/><Relationship Id="rId4" Type="http://schemas.openxmlformats.org/officeDocument/2006/relationships/image" Target="../media/image6.png"/><Relationship Id="rId5" Type="http://schemas.openxmlformats.org/officeDocument/2006/relationships/hyperlink" Target="../../../../&#25945;&#24072;&#35838;&#20214;/&#35821;&#25991;/&#37011;&#25096;/&#40635;&#38592;2.ppt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2" descr=""/>
          <p:cNvPicPr/>
          <p:nvPr/>
        </p:nvPicPr>
        <p:blipFill>
          <a:blip r:embed="rId1"/>
          <a:srcRect l="0" t="0" r="0" b="-609"/>
          <a:stretch/>
        </p:blipFill>
        <p:spPr>
          <a:xfrm>
            <a:off x="324000" y="1197000"/>
            <a:ext cx="5327640" cy="4335480"/>
          </a:xfrm>
          <a:prstGeom prst="rect">
            <a:avLst/>
          </a:prstGeom>
          <a:ln w="0">
            <a:noFill/>
          </a:ln>
        </p:spPr>
      </p:pic>
      <p:sp>
        <p:nvSpPr>
          <p:cNvPr id="963" name="Text Box 3"/>
          <p:cNvSpPr/>
          <p:nvPr/>
        </p:nvSpPr>
        <p:spPr>
          <a:xfrm>
            <a:off x="6356160" y="1101600"/>
            <a:ext cx="1643400" cy="41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3300"/>
                </a:solidFill>
                <a:latin typeface="汉仪小隶书简"/>
                <a:ea typeface="汉仪小隶书简"/>
              </a:rPr>
              <a:t>麻 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2"/>
          <p:cNvSpPr/>
          <p:nvPr/>
        </p:nvSpPr>
        <p:spPr>
          <a:xfrm>
            <a:off x="179280" y="1052640"/>
            <a:ext cx="878544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6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突然，一只老麻雀从一棵树上飞下来，</a:t>
            </a:r>
            <a:r>
              <a:rPr b="1" lang="zh-CN" sz="4800" spc="-1" strike="noStrike">
                <a:solidFill>
                  <a:srgbClr val="960000"/>
                </a:solidFill>
                <a:latin typeface="楷体_GB2312"/>
                <a:ea typeface="楷体_GB2312"/>
              </a:rPr>
              <a:t>像一块石头似的</a:t>
            </a:r>
            <a:r>
              <a:rPr b="1" lang="zh-CN" sz="48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落在猎狗面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60000"/>
                </a:solidFill>
                <a:latin typeface="Arial"/>
                <a:ea typeface="宋体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2"/>
          <p:cNvSpPr/>
          <p:nvPr/>
        </p:nvSpPr>
        <p:spPr>
          <a:xfrm>
            <a:off x="179280" y="1052640"/>
            <a:ext cx="878544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6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突然，一只老麻雀从一棵树上飞下来，</a:t>
            </a:r>
            <a:r>
              <a:rPr b="1" lang="zh-CN" sz="4800" spc="-1" strike="noStrike">
                <a:solidFill>
                  <a:srgbClr val="960000"/>
                </a:solidFill>
                <a:latin typeface="楷体_GB2312"/>
                <a:ea typeface="楷体_GB2312"/>
              </a:rPr>
              <a:t>像一块石头似的</a:t>
            </a:r>
            <a:r>
              <a:rPr b="1" lang="zh-CN" sz="48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落在猎狗面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突然，一只老麻雀从一棵树上飞下来，落在猎狗面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60000"/>
                </a:solidFill>
                <a:latin typeface="Arial"/>
                <a:ea typeface="宋体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2"/>
          <p:cNvSpPr/>
          <p:nvPr/>
        </p:nvSpPr>
        <p:spPr>
          <a:xfrm>
            <a:off x="250920" y="1052640"/>
            <a:ext cx="8713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6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d9d8ec"/>
                </a:solidFill>
                <a:latin typeface="Arial"/>
                <a:ea typeface="楷体_GB2312"/>
              </a:rPr>
              <a:t>突然，一只老麻雀从一棵树上飞下来，</a:t>
            </a:r>
            <a:r>
              <a:rPr b="1" lang="zh-CN" sz="4800" spc="-1" strike="noStrike">
                <a:solidFill>
                  <a:srgbClr val="960000"/>
                </a:solidFill>
                <a:latin typeface="Arial"/>
                <a:ea typeface="楷体_GB2312"/>
              </a:rPr>
              <a:t>像一块石头似的</a:t>
            </a:r>
            <a:r>
              <a:rPr b="1" lang="zh-CN" sz="4800" spc="-1" strike="noStrike">
                <a:solidFill>
                  <a:srgbClr val="d9d8ec"/>
                </a:solidFill>
                <a:latin typeface="Arial"/>
                <a:ea typeface="楷体_GB2312"/>
              </a:rPr>
              <a:t>落在猎狗面前。它</a:t>
            </a:r>
            <a:r>
              <a:rPr b="1" lang="zh-CN" sz="4800" spc="-1" strike="noStrike">
                <a:solidFill>
                  <a:srgbClr val="960000"/>
                </a:solidFill>
                <a:latin typeface="Arial"/>
                <a:ea typeface="楷体_GB2312"/>
              </a:rPr>
              <a:t>扎煞</a:t>
            </a:r>
            <a:r>
              <a:rPr b="1" lang="zh-CN" sz="4800" spc="-1" strike="noStrike">
                <a:solidFill>
                  <a:srgbClr val="d9d8ec"/>
                </a:solidFill>
                <a:latin typeface="Arial"/>
                <a:ea typeface="楷体_GB2312"/>
              </a:rPr>
              <a:t>起全身的羽毛，</a:t>
            </a:r>
            <a:r>
              <a:rPr b="1" lang="zh-CN" sz="4800" spc="-1" strike="noStrike">
                <a:solidFill>
                  <a:srgbClr val="960000"/>
                </a:solidFill>
                <a:latin typeface="Arial"/>
                <a:ea typeface="楷体_GB2312"/>
              </a:rPr>
              <a:t>绝望地</a:t>
            </a:r>
            <a:r>
              <a:rPr b="1" lang="zh-CN" sz="4800" spc="-1" strike="noStrike">
                <a:solidFill>
                  <a:srgbClr val="d9d8ec"/>
                </a:solidFill>
                <a:latin typeface="Arial"/>
                <a:ea typeface="楷体_GB2312"/>
              </a:rPr>
              <a:t>尖叫着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60000"/>
                </a:solidFill>
                <a:latin typeface="Arial"/>
                <a:ea typeface="宋体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2"/>
          <p:cNvSpPr/>
          <p:nvPr/>
        </p:nvSpPr>
        <p:spPr>
          <a:xfrm>
            <a:off x="250920" y="836640"/>
            <a:ext cx="871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d9d8ec"/>
                </a:solidFill>
                <a:latin typeface="Arial"/>
                <a:ea typeface="楷体_GB2312"/>
              </a:rPr>
              <a:t>老麻雀用自己的身躯掩护着小麻雀，想拯救自己的幼儿。</a:t>
            </a:r>
            <a:r>
              <a:rPr b="1" lang="zh-CN" sz="4800" spc="-1" strike="noStrike">
                <a:solidFill>
                  <a:srgbClr val="960000"/>
                </a:solidFill>
                <a:latin typeface="Arial"/>
                <a:ea typeface="楷体_GB2312"/>
              </a:rPr>
              <a:t>可是因为紧张，它浑身发抖，发出嘶哑的声音</a:t>
            </a:r>
            <a:r>
              <a:rPr b="1" lang="zh-CN" sz="4800" spc="-1" strike="noStrike">
                <a:solidFill>
                  <a:srgbClr val="d9d8ec"/>
                </a:solidFill>
                <a:latin typeface="Arial"/>
                <a:ea typeface="楷体_GB2312"/>
              </a:rPr>
              <a:t>。它</a:t>
            </a:r>
            <a:r>
              <a:rPr b="1" lang="zh-CN" sz="4800" spc="-1" strike="noStrike">
                <a:solidFill>
                  <a:srgbClr val="960000"/>
                </a:solidFill>
                <a:latin typeface="Arial"/>
                <a:ea typeface="楷体_GB2312"/>
              </a:rPr>
              <a:t>呆立着不动</a:t>
            </a:r>
            <a:r>
              <a:rPr b="1" lang="zh-CN" sz="4800" spc="-1" strike="noStrike">
                <a:solidFill>
                  <a:srgbClr val="d9d8ec"/>
                </a:solidFill>
                <a:latin typeface="Arial"/>
                <a:ea typeface="楷体_GB2312"/>
              </a:rPr>
              <a:t>，准备着一场</a:t>
            </a:r>
            <a:r>
              <a:rPr b="1" lang="zh-CN" sz="4800" spc="-1" strike="noStrike">
                <a:solidFill>
                  <a:srgbClr val="960000"/>
                </a:solidFill>
                <a:latin typeface="Arial"/>
                <a:ea typeface="楷体_GB2312"/>
              </a:rPr>
              <a:t>搏斗</a:t>
            </a:r>
            <a:r>
              <a:rPr b="1" lang="zh-CN" sz="4800" spc="-1" strike="noStrike">
                <a:solidFill>
                  <a:srgbClr val="d9d8ec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8" name="Picture 2" descr="路上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9" name="Object 3" descr=""/>
          <p:cNvPicPr/>
          <p:nvPr/>
        </p:nvPicPr>
        <p:blipFill>
          <a:blip r:embed="rId2"/>
          <a:stretch/>
        </p:blipFill>
        <p:spPr>
          <a:xfrm>
            <a:off x="7093080" y="5219640"/>
            <a:ext cx="1295280" cy="100800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4" descr="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2590920"/>
            <a:ext cx="5562720" cy="343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Picture 2" descr="路上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2" name="Object 3" descr=""/>
          <p:cNvPicPr/>
          <p:nvPr/>
        </p:nvPicPr>
        <p:blipFill>
          <a:blip r:embed="rId2"/>
          <a:stretch/>
        </p:blipFill>
        <p:spPr>
          <a:xfrm>
            <a:off x="7308720" y="5516640"/>
            <a:ext cx="914400" cy="71100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4" descr="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2590920"/>
            <a:ext cx="5562720" cy="34318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5" descr="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3600" y="5245200"/>
            <a:ext cx="1131840" cy="10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2"/>
          <p:cNvSpPr/>
          <p:nvPr/>
        </p:nvSpPr>
        <p:spPr>
          <a:xfrm>
            <a:off x="468360" y="170028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9d8ec"/>
                </a:solidFill>
                <a:latin typeface="Arial"/>
                <a:ea typeface="黑体"/>
              </a:rPr>
              <a:t>课本剧</a:t>
            </a:r>
            <a:r>
              <a:rPr b="1" lang="en-US" sz="6000" spc="-1" strike="noStrike">
                <a:solidFill>
                  <a:srgbClr val="d9d8ec"/>
                </a:solidFill>
                <a:latin typeface="Arial"/>
                <a:ea typeface="黑体"/>
              </a:rPr>
              <a:t>《</a:t>
            </a:r>
            <a:r>
              <a:rPr b="1" lang="zh-CN" sz="6000" spc="-1" strike="noStrike">
                <a:solidFill>
                  <a:srgbClr val="d9d8ec"/>
                </a:solidFill>
                <a:latin typeface="Arial"/>
                <a:ea typeface="黑体"/>
              </a:rPr>
              <a:t>麻雀</a:t>
            </a:r>
            <a:r>
              <a:rPr b="1" lang="en-US" sz="6000" spc="-1" strike="noStrike">
                <a:solidFill>
                  <a:srgbClr val="d9d8ec"/>
                </a:solidFill>
                <a:latin typeface="Arial"/>
                <a:ea typeface="黑体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谨以此剧献给天下所有伟大的母亲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恐怖紧张背景音乐.mp3" descr=""/>
          <p:cNvPicPr/>
          <p:nvPr/>
        </p:nvPicPr>
        <p:blipFill>
          <a:blip r:embed="rId1"/>
          <a:stretch/>
        </p:blipFill>
        <p:spPr>
          <a:xfrm>
            <a:off x="6372360" y="5734080"/>
            <a:ext cx="504720" cy="504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986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986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58605" fill="hold"/>
                                        <p:tgtEl>
                                          <p:spTgt spid="9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7" name="Object 3" descr=""/>
          <p:cNvPicPr/>
          <p:nvPr/>
        </p:nvPicPr>
        <p:blipFill>
          <a:blip r:embed="rId1"/>
          <a:stretch/>
        </p:blipFill>
        <p:spPr>
          <a:xfrm>
            <a:off x="7308720" y="5516640"/>
            <a:ext cx="914400" cy="7110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4" descr="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8000" y="2973240"/>
            <a:ext cx="5562720" cy="343224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5" descr="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3600" y="5245200"/>
            <a:ext cx="1131840" cy="1042920"/>
          </a:xfrm>
          <a:prstGeom prst="rect">
            <a:avLst/>
          </a:prstGeom>
          <a:ln w="0">
            <a:noFill/>
          </a:ln>
        </p:spPr>
      </p:pic>
      <p:sp>
        <p:nvSpPr>
          <p:cNvPr id="990" name="Rectangle 6"/>
          <p:cNvSpPr/>
          <p:nvPr/>
        </p:nvSpPr>
        <p:spPr>
          <a:xfrm>
            <a:off x="0" y="1916280"/>
            <a:ext cx="7885080" cy="30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60000"/>
                </a:solidFill>
                <a:latin typeface="楷体_GB2312"/>
                <a:ea typeface="楷体_GB2312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8"/>
          <p:cNvSpPr/>
          <p:nvPr/>
        </p:nvSpPr>
        <p:spPr>
          <a:xfrm>
            <a:off x="324000" y="189000"/>
            <a:ext cx="87120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改写结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请同学们展开丰富的想象，假设当时“我”不在现场，那么猎狗和麻雀将如何争斗，结果又会怎样？请你改写文章的结尾。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2" name="恐怖紧张背景音乐.mp3" descr=""/>
          <p:cNvPicPr/>
          <p:nvPr/>
        </p:nvPicPr>
        <p:blipFill>
          <a:blip r:embed="rId6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992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992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58605" fill="hold"/>
                                        <p:tgtEl>
                                          <p:spTgt spid="9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3" name="Object 3" descr=""/>
          <p:cNvPicPr/>
          <p:nvPr/>
        </p:nvPicPr>
        <p:blipFill>
          <a:blip r:embed="rId1"/>
          <a:stretch/>
        </p:blipFill>
        <p:spPr>
          <a:xfrm>
            <a:off x="7308720" y="5516640"/>
            <a:ext cx="914400" cy="71100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4" descr="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781360"/>
            <a:ext cx="5562720" cy="343224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5" descr="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3600" y="5245200"/>
            <a:ext cx="1131840" cy="1042920"/>
          </a:xfrm>
          <a:prstGeom prst="rect">
            <a:avLst/>
          </a:prstGeom>
          <a:ln w="0">
            <a:noFill/>
          </a:ln>
        </p:spPr>
      </p:pic>
      <p:sp>
        <p:nvSpPr>
          <p:cNvPr id="996" name="Rectangle 6"/>
          <p:cNvSpPr/>
          <p:nvPr/>
        </p:nvSpPr>
        <p:spPr>
          <a:xfrm>
            <a:off x="108000" y="333360"/>
            <a:ext cx="903600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请不要见笑，我崇敬那只英勇的、小小的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我崇敬它那爱的冲动。爱，我想比死和死的恐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更强大。只有依靠它，依靠这种爱，生命才会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系下去，发展下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 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屠格涅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7" name="Picture 2" descr="5179000220090510071830061_640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998" name="纯音乐-神秘园之歌(1).mp3" descr=""/>
          <p:cNvPicPr/>
          <p:nvPr/>
        </p:nvPicPr>
        <p:blipFill>
          <a:blip r:embed="rId2"/>
          <a:stretch/>
        </p:blipFill>
        <p:spPr>
          <a:xfrm>
            <a:off x="788508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" fill="hold"/>
                                        <p:tgtEl>
                                          <p:spTgt spid="9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Picture 5" descr="5179000220090510071830061_6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5" name="Rectangle 2"/>
          <p:cNvSpPr/>
          <p:nvPr/>
        </p:nvSpPr>
        <p:spPr>
          <a:xfrm>
            <a:off x="485640" y="620640"/>
            <a:ext cx="84297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它负责、慈爱、勇敢、辛苦，因为它有了一群鸡雏。它伟大，因为它是鸡母亲。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一个母亲必定就是一位英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Text Box 2"/>
          <p:cNvSpPr/>
          <p:nvPr/>
        </p:nvSpPr>
        <p:spPr>
          <a:xfrm>
            <a:off x="611280" y="2421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物世界中的母爱。</a:t>
            </a:r>
            <a:r>
              <a:rPr b="0" lang="zh-CN" sz="8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2" name="Picture 3" descr="fun_pics155d859bba3118e2p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Picture 2" descr="46027719657870p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4" name="Picture 6" descr="u=4279073678,3288672537&amp;fm=23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4" descr="1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8" name="Picture 4" descr="爱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9" name="AutoShape 5"/>
          <p:cNvSpPr/>
          <p:nvPr/>
        </p:nvSpPr>
        <p:spPr>
          <a:xfrm rot="11895600">
            <a:off x="2626920" y="4652640"/>
            <a:ext cx="3641760" cy="2038320"/>
          </a:xfrm>
          <a:prstGeom prst="wedgeEllipseCallout">
            <a:avLst>
              <a:gd name="adj1" fmla="val -53740"/>
              <a:gd name="adj2" fmla="val 100324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孩子，如果你能活下来，请你记住：妈妈永远爱你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3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Picture 2" descr="路上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1" name="Object 3" descr=""/>
          <p:cNvPicPr/>
          <p:nvPr/>
        </p:nvPicPr>
        <p:blipFill>
          <a:blip r:embed="rId2"/>
          <a:stretch/>
        </p:blipFill>
        <p:spPr>
          <a:xfrm>
            <a:off x="7308720" y="5516640"/>
            <a:ext cx="914400" cy="71100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4" descr="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2565360"/>
            <a:ext cx="5562720" cy="34322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5" descr="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3600" y="5245200"/>
            <a:ext cx="1131840" cy="1042920"/>
          </a:xfrm>
          <a:prstGeom prst="rect">
            <a:avLst/>
          </a:prstGeom>
          <a:ln w="0">
            <a:noFill/>
          </a:ln>
        </p:spPr>
      </p:pic>
      <p:sp>
        <p:nvSpPr>
          <p:cNvPr id="1014" name="Rectangle 6"/>
          <p:cNvSpPr/>
          <p:nvPr/>
        </p:nvSpPr>
        <p:spPr>
          <a:xfrm>
            <a:off x="3681360" y="592200"/>
            <a:ext cx="547200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ff0066"/>
                </a:solidFill>
                <a:latin typeface="宋体"/>
                <a:ea typeface="宋体"/>
              </a:rPr>
              <a:t>它，无私、忘我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宋体"/>
                <a:ea typeface="宋体"/>
              </a:rPr>
              <a:t>英勇 、无畏，因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宋体"/>
                <a:ea typeface="宋体"/>
              </a:rPr>
              <a:t>它要拯救自己的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宋体"/>
                <a:ea typeface="宋体"/>
              </a:rPr>
              <a:t>儿。它伟大，因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宋体"/>
                <a:ea typeface="宋体"/>
              </a:rPr>
              <a:t>它是小麻雀的母亲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宋体"/>
                <a:ea typeface="宋体"/>
              </a:rPr>
              <a:t>一位母亲必定就是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宋体"/>
                <a:ea typeface="宋体"/>
              </a:rPr>
              <a:t>位英雄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Picture 2" descr="路上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6" name="Object 3" descr=""/>
          <p:cNvPicPr/>
          <p:nvPr/>
        </p:nvPicPr>
        <p:blipFill>
          <a:blip r:embed="rId2"/>
          <a:stretch/>
        </p:blipFill>
        <p:spPr>
          <a:xfrm>
            <a:off x="7308720" y="5516640"/>
            <a:ext cx="914400" cy="71100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4" descr="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40" y="2924280"/>
            <a:ext cx="5562720" cy="34322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5" descr="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3600" y="5245200"/>
            <a:ext cx="1131840" cy="1042920"/>
          </a:xfrm>
          <a:prstGeom prst="rect">
            <a:avLst/>
          </a:prstGeom>
          <a:ln w="0">
            <a:noFill/>
          </a:ln>
        </p:spPr>
      </p:pic>
      <p:sp>
        <p:nvSpPr>
          <p:cNvPr id="1019" name="Rectangle 6"/>
          <p:cNvSpPr/>
          <p:nvPr/>
        </p:nvSpPr>
        <p:spPr>
          <a:xfrm>
            <a:off x="-31680" y="0"/>
            <a:ext cx="9175680" cy="32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宋体"/>
              </a:rPr>
              <a:t>      </a:t>
            </a:r>
            <a:r>
              <a:rPr b="1" lang="zh-CN" sz="8000" spc="-1" strike="noStrike">
                <a:solidFill>
                  <a:srgbClr val="ff0066"/>
                </a:solidFill>
                <a:latin typeface="宋体"/>
                <a:ea typeface="宋体"/>
              </a:rPr>
              <a:t>一位母亲必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8000" spc="-1" strike="noStrike">
                <a:solidFill>
                  <a:srgbClr val="ff0066"/>
                </a:solidFill>
                <a:latin typeface="宋体"/>
                <a:ea typeface="宋体"/>
              </a:rPr>
              <a:t>就是一位英雄！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2"/>
          <p:cNvSpPr/>
          <p:nvPr/>
        </p:nvSpPr>
        <p:spPr>
          <a:xfrm>
            <a:off x="428760" y="907920"/>
            <a:ext cx="83534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9d8ec"/>
                </a:solidFill>
                <a:latin typeface="Arial"/>
                <a:ea typeface="黑体"/>
              </a:rPr>
              <a:t>读一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60000"/>
                </a:solidFill>
                <a:latin typeface="Arial"/>
                <a:ea typeface="黑体"/>
              </a:rPr>
              <a:t>安然      庞大       无可奈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60000"/>
                </a:solidFill>
                <a:latin typeface="Arial"/>
                <a:ea typeface="黑体"/>
              </a:rPr>
              <a:t>摇撼    绝望     拯救    扎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2"/>
          <p:cNvSpPr/>
          <p:nvPr/>
        </p:nvSpPr>
        <p:spPr>
          <a:xfrm>
            <a:off x="395280" y="1152360"/>
            <a:ext cx="83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9d8ec"/>
                </a:solidFill>
                <a:latin typeface="Times New Roman"/>
              </a:rPr>
              <a:t>      </a:t>
            </a:r>
            <a:r>
              <a:rPr b="1" lang="zh-CN" sz="5400" spc="-1" strike="noStrike">
                <a:solidFill>
                  <a:srgbClr val="d9d8ec"/>
                </a:solidFill>
                <a:latin typeface="Times New Roman"/>
                <a:ea typeface="宋体"/>
              </a:rPr>
              <a:t>请同学们自由读课文，想想课文中出现了哪几个主要人物？它们之间发生一个怎样的故事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矩形 3"/>
          <p:cNvSpPr/>
          <p:nvPr/>
        </p:nvSpPr>
        <p:spPr>
          <a:xfrm>
            <a:off x="3635280" y="3013200"/>
            <a:ext cx="735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2"/>
          <p:cNvSpPr/>
          <p:nvPr/>
        </p:nvSpPr>
        <p:spPr>
          <a:xfrm>
            <a:off x="468360" y="198900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9d8ec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d9d8ec"/>
                </a:solidFill>
                <a:latin typeface="Arial"/>
                <a:ea typeface="黑体"/>
              </a:rPr>
              <a:t>认真读课文，注意通过人物的</a:t>
            </a:r>
            <a:r>
              <a:rPr b="1" lang="zh-CN" sz="4800" spc="-1" strike="noStrike">
                <a:solidFill>
                  <a:srgbClr val="960000"/>
                </a:solidFill>
                <a:latin typeface="Arial"/>
                <a:ea typeface="黑体"/>
              </a:rPr>
              <a:t>动作、神态</a:t>
            </a:r>
            <a:r>
              <a:rPr b="1" lang="zh-CN" sz="4800" spc="-1" strike="noStrike">
                <a:solidFill>
                  <a:srgbClr val="d9d8ec"/>
                </a:solidFill>
                <a:latin typeface="Arial"/>
                <a:ea typeface="黑体"/>
              </a:rPr>
              <a:t>去揣摩人物的特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5"/>
          <p:cNvSpPr/>
          <p:nvPr/>
        </p:nvSpPr>
        <p:spPr>
          <a:xfrm>
            <a:off x="611280" y="1628640"/>
            <a:ext cx="8208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8ec"/>
                </a:solidFill>
                <a:latin typeface="Times New Roman"/>
                <a:ea typeface="楷体_GB2312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8ec"/>
                </a:solidFill>
                <a:latin typeface="Times New Roman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d9d8ec"/>
                </a:solidFill>
                <a:latin typeface="Times New Roman"/>
                <a:ea typeface="楷体_GB2312"/>
              </a:rPr>
              <a:t>它嘴角</a:t>
            </a:r>
            <a:r>
              <a:rPr b="1" lang="zh-CN" sz="5400" spc="-1" strike="noStrike">
                <a:solidFill>
                  <a:srgbClr val="960000"/>
                </a:solidFill>
                <a:latin typeface="Times New Roman"/>
                <a:ea typeface="楷体_GB2312"/>
              </a:rPr>
              <a:t>嫩黄</a:t>
            </a:r>
            <a:r>
              <a:rPr b="1" lang="zh-CN" sz="5400" spc="-1" strike="noStrike">
                <a:solidFill>
                  <a:srgbClr val="d9d8ec"/>
                </a:solidFill>
                <a:latin typeface="Times New Roman"/>
                <a:ea typeface="楷体_GB2312"/>
              </a:rPr>
              <a:t>，头上长着</a:t>
            </a:r>
            <a:r>
              <a:rPr b="1" lang="zh-CN" sz="5400" spc="-1" strike="noStrike">
                <a:solidFill>
                  <a:srgbClr val="960000"/>
                </a:solidFill>
                <a:latin typeface="Times New Roman"/>
                <a:ea typeface="楷体_GB2312"/>
              </a:rPr>
              <a:t>绒毛</a:t>
            </a:r>
            <a:r>
              <a:rPr b="1" lang="zh-CN" sz="5400" spc="-1" strike="noStrike">
                <a:solidFill>
                  <a:srgbClr val="d9d8ec"/>
                </a:solidFill>
                <a:latin typeface="Times New Roman"/>
                <a:ea typeface="楷体_GB2312"/>
              </a:rPr>
              <a:t>，分明才</a:t>
            </a:r>
            <a:r>
              <a:rPr b="1" lang="zh-CN" sz="5400" spc="-1" strike="noStrike">
                <a:solidFill>
                  <a:srgbClr val="960000"/>
                </a:solidFill>
                <a:latin typeface="Times New Roman"/>
                <a:ea typeface="楷体_GB2312"/>
              </a:rPr>
              <a:t>出生不久</a:t>
            </a:r>
            <a:r>
              <a:rPr b="1" lang="zh-CN" sz="5400" spc="-1" strike="noStrike">
                <a:solidFill>
                  <a:srgbClr val="d9d8ec"/>
                </a:solidFill>
                <a:latin typeface="Times New Roman"/>
                <a:ea typeface="楷体_GB2312"/>
              </a:rPr>
              <a:t>，是从巢里掉下来的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5"/>
          <p:cNvSpPr/>
          <p:nvPr/>
        </p:nvSpPr>
        <p:spPr>
          <a:xfrm>
            <a:off x="971640" y="1700280"/>
            <a:ext cx="698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小麻雀</a:t>
            </a:r>
            <a:r>
              <a:rPr b="1" lang="zh-CN" sz="6000" spc="-1" strike="noStrike">
                <a:solidFill>
                  <a:srgbClr val="960000"/>
                </a:solidFill>
                <a:latin typeface="楷体_GB2312"/>
                <a:ea typeface="楷体_GB2312"/>
              </a:rPr>
              <a:t>呆呆地站</a:t>
            </a:r>
            <a:r>
              <a:rPr b="1" lang="zh-CN" sz="60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在地上</a:t>
            </a:r>
            <a:r>
              <a:rPr b="1" lang="en-US" sz="60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960000"/>
                </a:solidFill>
                <a:latin typeface="楷体_GB2312"/>
                <a:ea typeface="楷体_GB2312"/>
              </a:rPr>
              <a:t>无可奈何地拍打</a:t>
            </a:r>
            <a:r>
              <a:rPr b="1" lang="zh-CN" sz="60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着小翅膀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3"/>
          <p:cNvSpPr/>
          <p:nvPr/>
        </p:nvSpPr>
        <p:spPr>
          <a:xfrm>
            <a:off x="539640" y="476280"/>
            <a:ext cx="792000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面对这么娇弱的小麻雀，猎狗</a:t>
            </a:r>
            <a:r>
              <a:rPr b="1" lang="zh-CN" sz="5400" spc="-1" strike="noStrike">
                <a:solidFill>
                  <a:srgbClr val="960000"/>
                </a:solidFill>
                <a:latin typeface="楷体_GB2312"/>
                <a:ea typeface="楷体_GB2312"/>
              </a:rPr>
              <a:t>张开大嘴，露出锋利的牙齿</a:t>
            </a:r>
            <a:r>
              <a:rPr b="1" lang="zh-CN" sz="54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2"/>
          <p:cNvSpPr/>
          <p:nvPr/>
        </p:nvSpPr>
        <p:spPr>
          <a:xfrm>
            <a:off x="539640" y="476280"/>
            <a:ext cx="792000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面对这么娇弱的小麻雀，猎狗</a:t>
            </a:r>
            <a:r>
              <a:rPr b="1" lang="zh-CN" sz="5400" spc="-1" strike="noStrike">
                <a:solidFill>
                  <a:srgbClr val="960000"/>
                </a:solidFill>
                <a:latin typeface="楷体_GB2312"/>
                <a:ea typeface="楷体_GB2312"/>
              </a:rPr>
              <a:t>张开大嘴，露出锋利的牙齿</a:t>
            </a:r>
            <a:r>
              <a:rPr b="1" lang="zh-CN" sz="54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。在这危急关头，老麻雀是怎么做的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0:40:00Z</dcterms:created>
  <dc:creator/>
  <dc:description/>
  <dc:language>en-US</dc:language>
  <cp:lastModifiedBy>万润仪器贸易公司</cp:lastModifiedBy>
  <dcterms:modified xsi:type="dcterms:W3CDTF">2020-08-24T03:36:56Z</dcterms:modified>
  <cp:revision>3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